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31.xml" ContentType="application/vnd.openxmlformats-officedocument.theme+xml"/>
  <Override PartName="/ppt/theme/theme43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notesMasterIdLst>
    <p:notesMasterId r:id="rId44"/>
  </p:notesMasterIdLst>
  <p:sldIdLst>
    <p:sldId id="256" r:id="rId45"/>
    <p:sldId id="257" r:id="rId46"/>
    <p:sldId id="258" r:id="rId47"/>
    <p:sldId id="259" r:id="rId48"/>
    <p:sldId id="260" r:id="rId49"/>
    <p:sldId id="261" r:id="rId50"/>
  </p:sldIdLst>
  <p:sldSz cx="9144000" cy="6858000"/>
  <p:notesSz cx="9942513" cy="6804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notesMaster" Target="notesMasters/notesMaster1.xml"/><Relationship Id="rId45" Type="http://schemas.openxmlformats.org/officeDocument/2006/relationships/slide" Target="slides/slide1.xml"/><Relationship Id="rId46" Type="http://schemas.openxmlformats.org/officeDocument/2006/relationships/slide" Target="slides/slide2.xml"/><Relationship Id="rId47" Type="http://schemas.openxmlformats.org/officeDocument/2006/relationships/slide" Target="slides/slide3.xml"/><Relationship Id="rId48" Type="http://schemas.openxmlformats.org/officeDocument/2006/relationships/slide" Target="slides/slide4.xml"/><Relationship Id="rId49" Type="http://schemas.openxmlformats.org/officeDocument/2006/relationships/slide" Target="slides/slide5.xml"/><Relationship Id="rId50" Type="http://schemas.openxmlformats.org/officeDocument/2006/relationships/slide" Target="slides/slide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"/>
          <p:cNvSpPr/>
          <p:nvPr/>
        </p:nvSpPr>
        <p:spPr>
          <a:xfrm>
            <a:off x="0" y="0"/>
            <a:ext cx="9943200" cy="680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9920" cy="339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 type="dt" idx="127"/>
          </p:nvPr>
        </p:nvSpPr>
        <p:spPr>
          <a:xfrm>
            <a:off x="5633640" y="0"/>
            <a:ext cx="4310280" cy="3398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200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 type="body"/>
          </p:nvPr>
        </p:nvSpPr>
        <p:spPr>
          <a:xfrm>
            <a:off x="1325520" y="3232080"/>
            <a:ext cx="7292880" cy="3060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PlaceHolder 5"/>
          <p:cNvSpPr>
            <a:spLocks noGrp="1"/>
          </p:cNvSpPr>
          <p:nvPr>
            <p:ph type="ftr" idx="128"/>
          </p:nvPr>
        </p:nvSpPr>
        <p:spPr>
          <a:xfrm>
            <a:off x="0" y="6465600"/>
            <a:ext cx="4309920" cy="339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PlaceHolder 6"/>
          <p:cNvSpPr>
            <a:spLocks noGrp="1"/>
          </p:cNvSpPr>
          <p:nvPr>
            <p:ph type="sldNum" idx="129"/>
          </p:nvPr>
        </p:nvSpPr>
        <p:spPr>
          <a:xfrm>
            <a:off x="5633640" y="6465600"/>
            <a:ext cx="4310280" cy="3394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b">
            <a:noAutofit/>
          </a:bodyPr>
          <a:lstStyle>
            <a:lvl1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  <a:defRPr b="0" lang="nl-NL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4000"/>
                <a:tab algn="l" pos="1908000"/>
                <a:tab algn="l" pos="2862360"/>
                <a:tab algn="l" pos="3816360"/>
                <a:tab algn="l" pos="4770360"/>
                <a:tab algn="l" pos="5724360"/>
                <a:tab algn="l" pos="6678720"/>
                <a:tab algn="l" pos="7632720"/>
                <a:tab algn="l" pos="8586720"/>
                <a:tab algn="l" pos="9540720"/>
                <a:tab algn="l" pos="10495080"/>
              </a:tabLst>
            </a:pPr>
            <a:fld id="{87F881CC-9D0F-4506-B0B8-38F5CED4CFDD}" type="slidenum">
              <a:rPr b="0" lang="nl-NL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Rectangle 7"/>
          <p:cNvSpPr/>
          <p:nvPr/>
        </p:nvSpPr>
        <p:spPr>
          <a:xfrm>
            <a:off x="5635800" y="6465960"/>
            <a:ext cx="4308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52430960-D653-4C88-AA4E-27C39C12CE67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2000" cy="2550960"/>
          </a:xfrm>
          <a:prstGeom prst="rect">
            <a:avLst/>
          </a:prstGeom>
          <a:ln w="0">
            <a:noFill/>
          </a:ln>
        </p:spPr>
      </p:sp>
      <p:sp>
        <p:nvSpPr>
          <p:cNvPr id="1785" name="PlaceHolder 2"/>
          <p:cNvSpPr>
            <a:spLocks noGrp="1"/>
          </p:cNvSpPr>
          <p:nvPr>
            <p:ph type="body"/>
          </p:nvPr>
        </p:nvSpPr>
        <p:spPr>
          <a:xfrm>
            <a:off x="1325520" y="3232080"/>
            <a:ext cx="729288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6" name="Rectangle 7"/>
          <p:cNvSpPr/>
          <p:nvPr/>
        </p:nvSpPr>
        <p:spPr>
          <a:xfrm>
            <a:off x="5635800" y="6465960"/>
            <a:ext cx="4308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CE6AEE8C-1525-459C-A9AE-2C47E37979E2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2000" cy="2550960"/>
          </a:xfrm>
          <a:prstGeom prst="rect">
            <a:avLst/>
          </a:prstGeom>
          <a:ln w="0">
            <a:noFill/>
          </a:ln>
        </p:spPr>
      </p:sp>
      <p:sp>
        <p:nvSpPr>
          <p:cNvPr id="1788" name="PlaceHolder 2"/>
          <p:cNvSpPr>
            <a:spLocks noGrp="1"/>
          </p:cNvSpPr>
          <p:nvPr>
            <p:ph type="body"/>
          </p:nvPr>
        </p:nvSpPr>
        <p:spPr>
          <a:xfrm>
            <a:off x="1325520" y="3232080"/>
            <a:ext cx="729288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Rectangle 7"/>
          <p:cNvSpPr/>
          <p:nvPr/>
        </p:nvSpPr>
        <p:spPr>
          <a:xfrm>
            <a:off x="5635800" y="6465960"/>
            <a:ext cx="4308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E257519F-BA51-40AA-A4DC-1C4C050673CC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2000" cy="2550960"/>
          </a:xfrm>
          <a:prstGeom prst="rect">
            <a:avLst/>
          </a:prstGeom>
          <a:ln w="0">
            <a:noFill/>
          </a:ln>
        </p:spPr>
      </p:sp>
      <p:sp>
        <p:nvSpPr>
          <p:cNvPr id="1791" name="PlaceHolder 2"/>
          <p:cNvSpPr>
            <a:spLocks noGrp="1"/>
          </p:cNvSpPr>
          <p:nvPr>
            <p:ph type="body"/>
          </p:nvPr>
        </p:nvSpPr>
        <p:spPr>
          <a:xfrm>
            <a:off x="1325520" y="3232080"/>
            <a:ext cx="729288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Rectangle 7"/>
          <p:cNvSpPr/>
          <p:nvPr/>
        </p:nvSpPr>
        <p:spPr>
          <a:xfrm>
            <a:off x="5635800" y="6465960"/>
            <a:ext cx="4308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DD8CA573-126B-4445-82D6-97979886B999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2000" cy="2550960"/>
          </a:xfrm>
          <a:prstGeom prst="rect">
            <a:avLst/>
          </a:prstGeom>
          <a:ln w="0">
            <a:noFill/>
          </a:ln>
        </p:spPr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1325520" y="3232080"/>
            <a:ext cx="729288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Rectangle 7"/>
          <p:cNvSpPr/>
          <p:nvPr/>
        </p:nvSpPr>
        <p:spPr>
          <a:xfrm>
            <a:off x="5635800" y="6465960"/>
            <a:ext cx="4308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1986717D-B17F-4862-ADC4-B2C6DB9DB1D6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2000" cy="2550960"/>
          </a:xfrm>
          <a:prstGeom prst="rect">
            <a:avLst/>
          </a:prstGeom>
          <a:ln w="0">
            <a:noFill/>
          </a:ln>
        </p:spPr>
      </p:sp>
      <p:sp>
        <p:nvSpPr>
          <p:cNvPr id="1797" name="PlaceHolder 2"/>
          <p:cNvSpPr>
            <a:spLocks noGrp="1"/>
          </p:cNvSpPr>
          <p:nvPr>
            <p:ph type="body"/>
          </p:nvPr>
        </p:nvSpPr>
        <p:spPr>
          <a:xfrm>
            <a:off x="1325520" y="3232080"/>
            <a:ext cx="729288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Rectangle 7"/>
          <p:cNvSpPr/>
          <p:nvPr/>
        </p:nvSpPr>
        <p:spPr>
          <a:xfrm>
            <a:off x="5635800" y="6465960"/>
            <a:ext cx="430848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88920"/>
                <a:tab algn="l" pos="1978200"/>
                <a:tab algn="l" pos="2967120"/>
                <a:tab algn="l" pos="3956040"/>
                <a:tab algn="l" pos="4944960"/>
                <a:tab algn="l" pos="5934240"/>
                <a:tab algn="l" pos="6923160"/>
                <a:tab algn="l" pos="7912080"/>
                <a:tab algn="l" pos="8901000"/>
                <a:tab algn="l" pos="9890280"/>
                <a:tab algn="l" pos="10879200"/>
              </a:tabLst>
            </a:pPr>
            <a:fld id="{D386C734-2EA0-402B-9098-5B797AA135F1}" type="slidenum">
              <a:rPr b="0" lang="nl-NL" sz="12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PlaceHolder 1"/>
          <p:cNvSpPr>
            <a:spLocks noGrp="1"/>
          </p:cNvSpPr>
          <p:nvPr>
            <p:ph type="sldImg"/>
          </p:nvPr>
        </p:nvSpPr>
        <p:spPr>
          <a:xfrm>
            <a:off x="3271680" y="511200"/>
            <a:ext cx="3402000" cy="2550960"/>
          </a:xfrm>
          <a:prstGeom prst="rect">
            <a:avLst/>
          </a:prstGeom>
          <a:ln w="0">
            <a:noFill/>
          </a:ln>
        </p:spPr>
      </p:sp>
      <p:sp>
        <p:nvSpPr>
          <p:cNvPr id="1800" name="PlaceHolder 2"/>
          <p:cNvSpPr>
            <a:spLocks noGrp="1"/>
          </p:cNvSpPr>
          <p:nvPr>
            <p:ph type="body"/>
          </p:nvPr>
        </p:nvSpPr>
        <p:spPr>
          <a:xfrm>
            <a:off x="1325520" y="3232080"/>
            <a:ext cx="7292880" cy="30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A91-BC48-46B2-B7B2-293E3C25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39F8-17C5-47F6-9B5F-17C47531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29320-02C0-4DBC-BC81-1425C44B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BEC67A-878E-4E0B-B017-0BA33806F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43B21A-E9E4-4AB6-8E45-2F6F76449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6F485-5154-494B-AD10-10DC6912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ADAE1-CE88-43F6-B2E1-FFE050F6E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C8C17-7CD2-428D-9655-9FC158C1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68D2B-151B-4C6D-85A6-08E6634A0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511E8-6833-471D-BE7C-972385F6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52C7A5-655A-4406-92C8-F41C060C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187802-5D8E-4DA4-8FC7-B0CE8FA76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0FA5-7E7D-44F3-963A-AEAD23390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DA299-999E-48C6-9F46-CF20CAD59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813CD-D0C4-49BB-A669-E827D340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D31D9F-2C45-40E8-9E0E-5A9FA6A0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4345BF-5512-411C-ADBB-3B7E1D871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EF932-80BB-49C2-B7EB-EEE8D8ADD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0A23F-389C-4F26-B684-BB3479F6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827986-30F8-46D1-8704-62F9E617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8BF3C-A0EE-4FF3-A1D2-D6051378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AC1F7-73C0-4955-9F4E-5B8690B0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D1867-5EF4-4021-AA10-436D2844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4718-BE43-4021-A1FF-7FA5E1829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AD75A-C1CB-4396-8B1F-AC972159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651782-B988-4368-89FF-6434644C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BE54F-FAF0-4894-BCC3-5F97AFEF9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A7744-6C33-4EBA-81CA-2AEA401B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14A74-424F-4D52-BF01-CA7EF7707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125C59-9945-40B5-B78B-BF189F92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1B8425-AA74-4769-8898-EC8671379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BE145-EE4A-467A-8177-9AF00347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430E69-10F6-4C84-AF6C-F21ADAAC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EFA66-A86C-426E-B9CC-840D91F0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CE61A-9735-4423-8554-FC13C61D7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A43A88-EDB2-44E5-B190-7CE8968B2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17A64-4CD7-413C-8001-30137D398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9CC1E-059A-463F-9D7A-629D128D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7B45B7-961A-4335-A7ED-DA3E96157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64AA6-CA29-46B0-BB64-09640E6CD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1F410-1D11-4337-828C-8B2D3EFA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039BAB-FEA2-4FDE-8676-10487910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FE5AB-9516-4009-A39A-EFD64340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839053-6997-4415-AF29-2EC9D1DC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9B9B13-5833-4B87-A171-22BAE88F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A4BE-0256-47BE-B201-9BD3F71C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1BE57-A9D4-4A9C-8680-D8765E82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DF78D-5B7B-4F6E-B679-89E70AD4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BB19AD-6A6F-4832-BD8C-CD35246D2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F1DD60-C488-41ED-98E9-D15AB8EE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3AD37-522C-4544-BD7D-863A17D29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CDE90-8339-4BC3-9D14-4302D12D9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4CDA73-A940-450B-9D11-8E0E74ED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FE5EB8-2CE0-4187-B902-BE9D6B51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C81FB-9C16-48C1-9DF1-922F4A40F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AFF0C4-D431-482E-9EBC-81F81C27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7FBA-6B2D-4464-9CBE-0762964F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9157DA-1533-46C5-9D67-384B3F7A5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7DED77-7305-4DDF-A616-1AB9C9CD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F52E36-87D4-4361-90CE-7D5E369C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3472DD-3629-4E40-93AF-DC6EE1C76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C79C1D-2209-4EB2-894F-59CDE9BB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0B311-5053-409F-82AD-00CE0B31C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708359-25E9-407C-970C-5043D027A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86EAA-ACB2-48B5-991D-537CB5787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F2C0B8-416B-49BA-915A-FD36CAF3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04E08C-06D3-4CF8-A66D-14E86090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1D16-D85B-4632-A8EC-C8364C79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582F15-9D5E-46E5-9FE2-AB243FD15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182133-3F8E-4A24-ACE1-1800D21F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B5387E-D3FB-4114-89C9-71F378AD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80E86B-05A8-4737-90BD-119024BC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B274B8-41C2-4E6D-9606-85687772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92D4D9-789A-4A19-91C0-C79E50BF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DCD290-948E-4DDF-90B9-52D18116A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A3B303-9341-401F-8116-94C7A0D9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4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5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41BDDE-DC33-4AFA-B9A1-58E8DCF4A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C85E46-54A4-4CDC-9F1B-78F31CC15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82D5-CCA9-45B0-AD5C-7702E528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623807-623D-4D7F-A1C4-9DBF95F1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29445D-299B-456D-BF4F-07DC518C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19B644-0C21-47AF-9FF6-2CF0C25E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87A6F2-C191-4520-9BC9-F5230633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46CC1F-6D78-474D-9E5E-5424511D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15FF3-F5CB-45FD-9B06-994BF930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A20F8C-B25D-469A-A1E9-63B2DB71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B34590-099C-425D-8283-7FA6E5A4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CF5D6F-C947-4C25-AB1B-E34E12D01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5B8A81-A317-4B2E-9929-EBD962CEF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BBBC6-17EF-45DB-BF8E-FC8EBD2A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840925-5D69-4A88-9C0C-10909AF9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0C7365-F399-4320-9B46-EDF5842A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54D577-19E6-4C0F-BF31-F58BB0CC4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345CB1-1E6F-41B7-96A1-F3F4984F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8922ED-6CC8-426E-885B-C6DAF4B5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564101-212B-402F-B467-495C47CE6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E5344FF-77A7-4861-9E8E-2B8258F23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BBB68D-974F-4CB0-9627-C5BD1796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2F2E4A-1B7E-45C6-A59C-97A35CB9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DCE1ED-348D-4AF2-A07B-75C0D09A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253E-4E5B-476C-997E-FBC1C3E9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4B425C-8C08-4568-BA91-DE03785B1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2396B0-2CDA-4A7B-B524-601996078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6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7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0A09EE-4B14-4993-868B-3FDA6A603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DD8C4-824B-421E-B296-EC20FEFAE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0D59F1-C860-4AFB-9109-169FAF2E1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2C5EE5-AD4C-495F-90F6-8D8E557C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3E82B3-9D5D-4ADA-9AA7-4F39090D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D0BE30-1504-4662-AD88-D8BBDC67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271ECA-1398-4149-A912-52264550E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741F15-3E3A-427E-B9F6-28EC47493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D4FD-3F88-44C8-9E07-27D56719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1674-E334-4E71-956D-592F32C1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3193C0-3FA1-41F0-A351-6749C8C7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8A987AA-9232-40F0-92B0-B70CA07F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296F92-04B0-4B38-9DCB-AB080185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657C9D-37C7-49A3-8D69-815B6E842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C6DD0E-EADD-4B59-B2E4-E8DE01B86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2B9077-64BE-43A2-B6D8-A2BFF06F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973FED-5ADE-4EAE-A0EC-E8CDCED7F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31E39-CE57-4E47-80FA-D9DA11F2F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15E3C4-65EA-4EC3-8C44-7127C4E9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8767D6-523E-4918-AD35-01FBB1B3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66ECA-CAB9-4434-8E61-98BD0460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9DB962-A018-4DF0-AA47-0A07D0166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C436BC-9647-4E31-A403-D27C7F1B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8B7B7E-1BE2-4593-B697-6886ECA21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CEC3FE-2B52-46DA-AF16-113D8C6E7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A0DC37-2BA2-4725-8D5A-F293F23E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EE2FD8-4D2F-45A0-B3CB-5835917F3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8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9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66B54F-68CE-47A3-AF4C-F2F29ABD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71FD4A-81DA-424C-9418-61A689E7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C25FEF-7EA6-4E04-B78B-E4E59FF7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9841D1-978B-4456-8927-C7F78C0B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1A0C-60E5-4C45-9552-D48E52AD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A03C14-F93C-4841-9D58-50EDE34B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AAD330-D979-4AD2-8A05-C594D555F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4D7587-6659-410A-BD99-7FCDD2E9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908157-8AEB-444E-90E4-FF419A0C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3EF009-8056-4FBE-B03D-B646F62F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6051F04-E809-4A2B-9C6E-2CCDA694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08768C-154A-41EE-971D-ECCB4791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0F0F43-71E2-4446-AFF3-43075861C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8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9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0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D2CDA5-BA0C-48F4-A746-9604528BC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EE5A71-D302-4628-9672-D161D7F2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88F7-4C6E-426C-BD8B-0AAF59B03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8BBE97-15F7-47FC-BFD6-6123936BB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AB91F3-F9BD-4547-BF32-76EF8E6B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D802E5-6205-4AEF-A046-7DB290237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023BF5-7F1A-4B32-B8C8-37CB1C75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749D8BB-2E5A-41FF-998B-2EB202236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6A3A61-7AF4-44D4-9965-92D60C23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E37046-1A13-40FA-8977-A021FAF0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E8FDC6-DD1B-40F4-A89A-C7EFE3C7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B1F28A-8676-4712-8C68-1D9920AD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373B5A-A5A7-4E0E-A82C-722A568EC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7576-10AF-44CC-9538-0B86B1A1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280B4E-50EE-43AD-9B09-9032D7DD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D2791B-0422-4F4B-801F-0ABC64240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048A4E-52F9-4978-B1F7-773D0039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71A3EA-550C-451A-A6E4-4A3BB42FB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768925-F5D0-43CA-9172-4FF6942C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060B73-034B-492D-AFC6-90938199D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B4CE46-15F0-429F-BE62-269CC5C2D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BC3EC2-B858-42D5-94B9-7C841F10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C1DEB8-C469-477F-8D80-05C043C3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92C313-97EF-431B-B6BA-73D8D379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D6F46-8E2B-4C56-8AC7-D7BAA8B8E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FF6819-E0C1-456A-8341-46FDD76AB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408E48-C186-41FF-8DDA-DBF643BA9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99990C-1E14-4500-9999-6B7D4235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39ADEA-1E76-4692-A388-3F9C227D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817A6B-1622-4C15-92FB-7CAB3295D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3D0755-1311-44A3-B03E-1CFE69619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FD5456-A089-43A3-B660-D4BD5C3B4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49D166-CA39-47A7-A8B5-A53AA249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D82937A-C12C-40D3-8F6E-EA7A023C6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0AD3B2-3250-4C07-9E2B-B2953C67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CA21B-1BB9-45C9-B8B7-B138784D2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C70AA1-1C54-4940-8967-7D8E3D13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804A96-FAE0-40F6-A1A0-BFEDAB74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E0C028-4C18-424E-BFB7-ACA822864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6388D1-7EB7-4F67-805D-C3E4B30E9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B058054-B7DE-48DB-858C-A70F535B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CE48E7-D0A3-400C-AFA0-AE566B638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B479D3-4992-455E-86A4-AFAA519BE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BCF67A-7FFA-4895-B5B2-D125EA6A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EDF78C-4488-4FB1-A5EA-BAE16C96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F3BF005-D403-420F-8248-A96B8A256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A3ABC-684D-4621-B5A7-ABE47025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86EC79-6727-4DAD-9D2B-3489317B2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146776-F5CE-4674-9BB0-F80A67363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F3677F-4D70-41A8-A4A2-5091A7FC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B0B706-DA66-4038-8E5F-CB3205818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5FEC93-B3CE-4CCA-B049-194B10D4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1D3C01C-1575-4B52-AD4C-5EE7657B5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3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5D2C256-F853-4DB3-A47A-640FD79C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8048D3-735F-4EB3-A29A-9E2A8718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530277-D1ED-45FD-A319-488FE4F7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153A65-AFD5-4BC0-B1EF-BF4FCBE1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47A604-EC01-4B0E-8138-C089174B4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B1BE2A9-5BFC-4B39-9540-5375C17AC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9656321-3D80-4742-B221-FFD940E7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3F38D7-901D-4178-8889-3B784AB4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035F2C-954B-4A82-B0C0-9ED3FFCC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72FBEC1-164B-442F-B1D4-B01DEE6C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447908B-4EF1-4855-8BA9-A2EDFEBC1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366367-3B82-4633-BD8C-49EB512B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DE6BD8-A935-4193-91B2-B1480188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4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5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614C000-D86C-4191-9647-59F2ADBF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340F837-EE5D-46A3-A411-8849B16F1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4621F-56DD-4D47-B501-7404464F4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74C89E-31BD-4441-8219-0B8D83EB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456A0C-0D4E-42C2-80A8-31DA96A6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2CD1D0-C61B-4F37-82A5-8691CD7A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C10552-BD62-4AA4-9B58-1D2831792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1EF792-B1AD-4DE5-99BA-6C10AD20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62B1D5-DC9E-4FB4-AA2A-F1B89888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D3B66BC-3E2C-4576-9EE1-965E4CEB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05853EE-B34F-47A0-A7F0-5F9FD42D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9E56061-03B0-4C75-9971-0F30715B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3B467E-593F-4CFF-B97C-5DDF46454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1615-4C6E-49BF-8135-355305E5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BA01E-19DC-4F84-A766-0FD559DE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5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6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2D9A6DF-0742-4BDA-95C3-1DAD99F40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33CDF0C-BED5-43CB-8124-5676BBAF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746997-7735-47FD-BF59-93F293C97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D975D7-8F13-4470-B147-262385A7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50FB9BB-4713-4C9C-9B96-3D728416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37DF56-E5A6-4A07-86FF-C08133DD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7B6D9D-5AD2-46DA-861E-67B036C7A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97A0D5-34F7-4E92-BA3C-12869D90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FA98AC-EB3A-46DD-B00F-641C35A2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6EE63AD-3488-4951-83D6-A6948C39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2E362-3EEB-4BDA-A4A8-06F1E530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4DEBC66-4906-4ED8-A377-A95240BD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FEBF673-8EA6-4E82-8FA6-2D90CE808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5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6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7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340F6F-677A-473A-8862-3A0365E8B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3FFDCB-4728-4E2C-9B3E-B7046D41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7735E5-8FDA-4FC7-981C-389D3C28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4AE15D-7EE5-4C22-999D-F706D96B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0B6D4F-9F5B-4B9C-9526-536A8610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82FD18-B933-4CEA-98AC-49A5A4C8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BAD8004-C2E8-45B0-9A12-B4A13B650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1F91D97-93CB-4F7A-9020-9172E458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5D383-2981-4518-92B3-160015D98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1C62B2-9A4D-4E1A-A42D-DDBD33D9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D4D15C-9EFE-4F05-81D3-89BD5B2E2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7954AD-D869-4D29-8DC5-9580C7EF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5232442-6CEF-4E49-9291-4AB5090F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7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8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666979-753A-418A-8B4B-211FDFA5E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B1B5F8-083A-4B55-9084-F433EB21B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32F2C9-6104-4618-B137-6928EDF8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261598-B6B8-4C57-B876-7A95619F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2372BED-C53F-4687-A449-E2EA819C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12DDDB3-422D-4EDC-8865-CE87743E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3DB5E-ED41-4202-8F6B-49B58B30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60E9D1-AA35-4D33-AC67-947CFAF4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0DDCAB-D5D8-417B-8970-8A7669C7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583375-4081-4415-9884-23CDCF7B0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75351B-6901-4930-9C78-2D4817A4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3B63BE-1D5D-4BAA-9EFF-C062A4C60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D394CC-189E-4710-AF41-3506EB75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8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9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023190-1D36-406B-A883-95DBE14E4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E672D6-44E4-4B9C-9DB3-1FCA472B0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340E75-6584-40BD-85E8-D67A687FB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D924B8-31DF-4FB0-9E16-A4630233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9C76FC-1C69-46B3-94AB-2BCDDC87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E84AFE-B10A-4FB0-9753-01444875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B961B2-CF66-4F08-BF28-835BE45E2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1EB109-049D-4A12-BF42-CF9F77BDA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A021335-8EB1-48F1-A6B6-FB965F3B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8B8B28B-E444-40AC-86AD-DC1EF64EF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40BC3E2-51BC-4476-B6AC-C38ADA10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EE9035-2C5F-4B5A-9480-37B9D68ED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E643BBC-E677-4DF1-B45F-0CAC12DAA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8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9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0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EBF5A2-868A-4F53-8C8C-B0441A851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BCE56BE-546C-4164-8E8B-3B6140DF6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CFC0B-FCB1-4573-9B9D-7F270244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F0F0EA-B0AB-42C3-8E66-AB046F131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3B2016F-4F77-4C14-BE8F-6E31C6625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19BE43A-FCD5-4457-93DC-ABED980A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B86DA6C-AD7E-44CB-88B3-CD8BC3C9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1A66E28-6A62-419A-B6E2-3989D33E8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F838E7-DE28-4D1D-92DC-FD49E473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4A2FA2-34FA-4F88-BAD9-05A58BA5F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2DB9063-17CF-417E-8C67-50CDDDDA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2B87AD-82A2-4686-8327-AC1B43340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B54BEEF-916A-47CD-A54D-F7FAA733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20EFB-361F-4318-AF8E-792AE759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0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1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5717A59-2F67-4250-8BFA-8309B9987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6D648F-A494-42B4-8F91-36DB12D8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4C7845-AF87-4D1A-8482-944A6B5F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6FC646-9F4C-4B66-907D-EDF3E5CF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16CCDDD-B330-402D-9E05-1D8BA536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CBA0DB1-61F5-4511-A144-BD2F0052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61E609-E64F-4A44-A469-D8885BDE1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B5631BE-820D-441F-A1A0-69EB3BED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9AF2158-5DB8-4778-8A57-8439854D7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711FFF-5E78-4747-B7B5-824A7838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504D0F-FA8B-457F-A936-9B81CC4D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4947843-7112-4A34-BF31-8BF0DDC7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2F02C13-F0C1-41F5-A7E5-3AA34CD49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1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2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CF6672-76DF-4B49-9BF1-6029F17B2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863BA06-AB9C-4A51-8F16-5E484B33F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BBEC395-F82C-4A6B-BEDA-D2B1A83B0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D7590DC-7262-40FE-AB03-54CDF442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246FF3E-E56D-4945-BA37-21FB00481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6FB5FE-0649-4760-A449-C7E98F3CC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7B888D-FB9F-44AA-9142-4151C40C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E66F984-EDB4-48E6-A068-7FBF93D8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A137C-E78B-40A4-8F9E-013AE82C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BE0FE25-6BEA-4EF7-B7C6-2A39C2FB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E16DCB5-51BE-49B4-AE9D-7E912B1C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DB84E41-9A81-4123-9171-D57EA6ED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DC14F79-7497-4697-812D-BE5AB0526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664F835-C8CD-42FF-9401-0D3E0AA9B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4C723D3-242C-4627-81AD-94586F70A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66F3CB-5FC3-4A88-9D8A-51851F14D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8BE0EF3-011A-4968-AECA-7B7AF61F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57F6436-5700-46CF-898B-BCFAF94C9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D429E04-CC46-4E85-89BC-5BB811FF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F2E9E-6793-4643-B4BF-19095E46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CE6B70-3E36-4838-989F-EF08F3AFD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BFEA27-7B0F-4C2A-8F82-0643376B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61A0B1-FCCE-4042-B6CF-4EF51217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77574B-D91A-45B0-87EA-E1604691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2E0727-D06E-4530-8E97-79DA3848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86DBDC-2855-458C-B0DC-49F3D927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4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18837D-651B-450E-91FF-9668072E8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2710274-1E80-4CCB-9D1E-C90D1812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027C29-ACA3-43B9-A88E-57076E01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046DE8-05C9-40F3-B818-A3C963AB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F74D-E118-49FF-AEEA-9144C4F72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4C728-56FD-4732-AF17-63A0975C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3C26B1-6248-4C65-8E8E-A65B4EE7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F821CEC-85F6-4692-B3AC-E8A9AC14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14797A-3AA2-4BE2-96A0-CEA1C472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116470B-273C-47CB-89F0-40B8CEEF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9DA836-D763-4444-9B52-D5281437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CAEC6D4-07C6-4625-BD8E-AFFDA407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1C8CF8D-A691-4338-857B-C6B6E88B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B96B9A3-4BF5-4857-9D26-2DC82DAB6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685C75-42E1-4DA5-9CBD-54FFEDECE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616B13F-2327-45E0-9CEB-0C282D160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89372-7570-4327-B9CE-E1EA508F7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35EB5BE-66D6-4FF3-A17F-99D23B84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028564-DAF6-48F4-9F12-6A6E978B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86D44C4-54FA-4FFA-93DD-5D586EE39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FD63A7-F3C5-42DF-B324-6E264E7D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DCA0A47-9981-49BE-B10B-04F33296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172843-48EC-48A5-981C-33044A36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ACA07B6-D7E2-4C27-89D1-F633E1239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29C3FB2-FE91-4D5F-8DB6-98D61BD4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0E589E-99F8-429E-83C5-BD8FC8DB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4F2F1B1-09BE-4233-A95E-4BF8A235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FCC96-74A4-4B4B-A119-A43310FD4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4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5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6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83C8883-C7AA-439F-909A-2A276055D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A51C23-9A49-4D22-8EF6-050983D80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95EAFF-04DB-40FB-961C-B78AEA94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EDA16E8-D0B6-47F4-A338-D4DAD05B1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4F3B0A-D98E-44E0-843E-D3732286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B9F8214-D575-40CF-8B88-3243256B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E155D3D-07D0-49F2-ACFF-AD4740D7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BAEE1F4-187B-413D-BB0C-F00104E12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C90975-A46C-4DC5-AF40-1B92ADC7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AF77F4-6D6D-4AC2-B291-97B40873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DEA0D-4008-4889-93AC-8042279B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307951A-753E-4D64-836C-31A6CACD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AAB9EE-03E0-4E85-BC33-AE51C6758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96B4A9-E117-4CC7-A1F6-03AA65718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3827152-1395-45CC-BD3B-3886597D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B2D155-541D-49FC-B266-F31315447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BD36D70-8947-4CE6-86CB-88380D1F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554F7FD-9456-4B73-85EB-C7D7D818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7B7C299-FEAE-4C93-9445-19ED5C578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B078511-55CB-43F3-8726-297787D5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F40CEA5-3C1D-40EC-8EB6-E3FB2720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0322C8-5799-4DD3-AE04-7ECC8A0AC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C335291-1AFF-4F79-BCF8-C4C3B1A2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424E5A5-CCE0-4F8D-BEFD-CBBA57C3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D6F636D-CA52-4966-A3EA-A59D2C521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51ECDD-6F78-4D8A-A25E-F0E0A81DF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6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7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8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6DC127-52AF-4212-8519-68C0093B1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56D5A16-22D9-4FBD-AA95-80059FEEA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EFCBBD5-8694-4791-9229-C63BA13D8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793D967-89F1-4D7F-8345-465B6AA86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83ACC03-3FFE-4E7D-9CA6-9B4CA906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55B5B87-71AC-4A12-BEE1-94E5FC22C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90C6A-A085-4C94-BAEB-D0AB4912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05F390A-8DAF-4234-8999-3401A854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2A7340-A61D-4EA3-AA7D-772FB0E9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FDA14DF-D9B5-4E7A-A83D-C8654A9B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7F3B719-A1DB-43C7-BFA7-638D6573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0EC5A13-E325-4E7F-A5B7-A2F93D98D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498034E-ACF9-4919-95C6-4FDDF8D42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7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8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9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34ED47C-EE42-40C9-81AB-A0A95D91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36471D3-691A-47C2-8416-743B6B001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94E8D92-1ED0-45F4-B395-558373FD8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25B500F-E035-4A37-94CC-2B04EDB6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D8E59-4DDF-4FC7-BB81-6B6E9D73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16F1478-E2FB-476B-9531-DB9C9A2BF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2DB2F86-4FC2-4129-B060-769147DA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5CC802B-EEAD-40AA-A751-8AA747C40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3909B8C-A189-4F4A-B7CF-A32403A77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C944821-F8D1-4DC5-8CD6-72AE98041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6877774-5C53-4100-ABAE-4DF47B99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F47CEF4-5CA7-4FA4-9702-CF0F8CB8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45037A4-A36D-4DEC-8E93-D051FDBE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8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9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0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E155051-E8FD-41C9-BFBB-DB5642A4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546C801-831A-4CC3-A05B-EAECA727B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E808A-B0DF-426E-A367-488AC954F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1C1B208-9B8C-4C66-A637-7D654036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6A5F1C1-6F21-4A9E-944D-1D2326C9F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B6DF34E-F8F6-4438-92E3-1F678553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81CBD49-F3B6-41EB-8ECE-4B5FFD1C9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65A1306-B664-4719-9415-D458BFB4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95BA690-2E5C-4D8C-8ED3-B3F521EA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C85BCD3-73B1-4700-856A-B1E541D8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3A0C684-7F6F-4A68-97B3-8EA89D32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5994781-9D9D-4EDA-A590-0990C7CD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907B691-CD26-4A65-BAF4-C3D37B941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467C4-FEA9-4BC5-8402-3A3B5C68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59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0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1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7B53EAE-87CA-4C1A-9449-815FDCE8B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EFCF08A-4ADF-44D4-96EA-0607BA63A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9B5C3EB-3613-4CE0-AF86-68CFFF69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3E9AE59-8F34-4D53-9BA1-15ABEF99C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02ECFA8-7C16-43D5-82DE-561FD208B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41E2A61-7E2B-416E-B85C-0BF69E89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F23B835-CBAA-4236-83F6-AD8A3DD8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0CC1FAB-401A-4251-B7C8-BDCAACF3E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F3A4387-3972-4532-90D7-CFE4D2F1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15F701A-19ED-4CD2-B8F0-176B1D58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58B1F-5CE3-40C9-AD1C-250AA2B9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4C4E894-F073-4F44-BC07-9D9A27E7A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9822A6C-DB91-44E6-8861-02A3FE451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1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2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7011192-5A08-4DC1-86B0-19AFFD095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35AA9BD-3366-46DF-9296-6B65BC82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78DEAE9-15E7-4654-9D31-69D5858F0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51F0121-4D59-4064-A26E-4D0539272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0295C36-208A-4B7F-A123-75AB36B3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F639776-AFB4-455C-A499-E8ED5C47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F0D0A0B-111B-4F44-9E6A-5C964AB4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EA4DA86-2F4A-43F7-8427-955F94EB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9E1D-295B-40A3-B5AA-AA1810B1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8A0AD-34BB-43D7-AEF5-07F9BACA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6D710DA-DB98-4574-829C-7FF176ADA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81ADF7C-96B1-4458-8658-2813DA9E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4AA2735-8905-473B-BA2A-466440E8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3A0B8A2-DE6E-4CE7-A467-222DFB69C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1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2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43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0467908-1EF4-4727-B868-BC7A80078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924E6-EF01-44F0-9282-F43DC3CF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061E45-857D-4378-B321-B42DF318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7E0AE-A380-4157-A000-837857865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15F55-D315-4CD8-BD73-DD13CAE5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14B28-4BBB-4F0B-B48D-91D5231F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8E947-E61C-4FAA-8785-C7736F33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07447-D1ED-4794-A0AB-F3202BEE6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6507FF-C48D-4019-8C41-8D0E1302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F2CE1-1BC4-45E7-B6FF-5DFCFC737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D57-8119-46B6-A701-50A657711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10F50-6222-4EB5-9388-45411AEFD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358F6-C1E6-4702-87DF-12307FECA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76DDB-A62F-4A2D-8C37-4CB23A58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4EA0F-4744-4AAF-95E7-B021B7BBE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2FCA84-39AB-4409-B579-496B522D2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05B505-A808-454C-A7D5-D16C0D8B9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FE0B7-D98C-4429-BB15-60B16893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E3D3D-E983-4298-92FF-3A6AAF0C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D6CD12-10CD-40A6-A8AD-775792F83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4C237F-C7B0-4D22-82F0-845825EE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AE11-0FC8-45DA-B155-7DB7484D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EDB405-5EC3-405C-A49C-7CCF23884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6245B-BE66-4628-A3FA-7AEC9081C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C34D6-5A7D-4B4B-AF74-C9AB60F95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2DF142-6696-4B29-B6B6-2E093CA3B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D69DE5-D701-462B-944B-E67B9A8AB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EEFC43-75B3-4FF9-A776-A52D862F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9B0AF-D8E5-4189-B059-33F86C93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CAC97-56EE-4117-8BA7-782D9080E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56DB2-E5A3-40B3-8515-A6B01FD1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405F2-24CA-4695-9C45-87324A4C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5400-2C67-4039-9194-2058D8AED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D04BE-84A1-41D9-B7E4-96A692A6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09EB4-CB8F-424E-A4D0-7C4970720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7A3E4-D4EF-4BE0-9513-E2CBE6AB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FCC74-F3A9-402D-9A3E-9D2B35CC1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4080A-2821-495C-BA55-0BB024A98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39B5B-BC95-43B4-8D5F-807B024C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90528-053B-445A-B430-2D4BFDC6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674D7-C939-4946-BB37-990A66BB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038719-37B1-4D19-813D-1B1E8728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5A8EF2-E775-4811-9FF7-ACBB0600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2EA2-A887-4355-8732-7F11DD6CA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E2A019-057B-4190-B781-3FF5D470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838915-D13D-43D4-9224-2A553B40D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8B49EE-105C-408D-9AB0-3CA0B7DD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FEA108-5E9E-4580-8B7C-91C5A258F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7C249-5768-4B66-A255-4F4B99E5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C59BE-6CB2-4748-BD7A-B4398018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2AC81-54B3-4A2C-B7BC-60E2BD2700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4E7269-4086-49B2-852B-678F683B1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E25DF-76F9-4CFC-8A4F-D18E02EA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86F13-6F63-4D53-BF38-85F392DD7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7265D-11E6-4282-96E0-56C2F3C159D7}" type="datetime">
              <a:rPr b="0" lang="en-GB" sz="10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5EF45-660E-4FF5-9D50-EBBC3E88BBD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382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00B0-BA56-47EF-BABC-1FD2E0D42123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AB81-6D86-4181-87D7-3F942AB6A58B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425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31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0A9EF-F931-480F-8057-3F8C7F3A087F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32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33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8BBF5-779D-4BF2-854F-C465EA4798E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468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65DDA-35A5-40C2-A700-08F10194F754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8EFA-FACC-4FEB-BBD7-5496F1F6C165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511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dt" idx="37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E6B8-925A-42FE-8908-887E36558BBF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ftr" idx="38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sldNum" idx="39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B7B4-9B85-405B-9E3D-C9489294B3B8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554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dt" idx="40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2FD8B-AFCC-45E4-9BD4-39F988DF8211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ftr" idx="41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sldNum" idx="42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20ABB-AE91-44E7-960B-55075D570C1C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D1607-492A-4554-AB6C-F45AC78E4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sldNum" idx="4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584E0-3EFA-4FA2-8CF4-7E03B86CA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5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FEA2-9AD0-4727-8ED9-9C3210575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 type="sldNum" idx="5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C93ED-CA50-4B89-987A-B0D5A8C60B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 type="sldNum" idx="5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D8D9-4E9B-42FD-9A50-1A366942F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38B5-39CA-4393-BA14-0D6CAA18C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138C-12D9-4525-9787-BCEAC85F3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0F72-5B21-4CD8-BFFF-F00B22FE6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 type="sldNum" idx="6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78F3A-714F-45DE-A007-0A90D3C6B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 type="sldNum" idx="6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E383-AC48-45A7-86B6-3FA09951F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 type="sldNum" idx="7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D6E71-B561-402C-BB3C-2E7FEF6B1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 type="sldNum" idx="7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A3B9-C4E1-4465-BDBF-E6A26129FF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5"/>
          <p:cNvSpPr>
            <a:spLocks noGrp="1"/>
          </p:cNvSpPr>
          <p:nvPr>
            <p:ph type="sldNum" idx="7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CB8A-C2CA-4CED-8F8B-60BB8497FE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5"/>
          <p:cNvSpPr>
            <a:spLocks noGrp="1"/>
          </p:cNvSpPr>
          <p:nvPr>
            <p:ph type="sldNum" idx="8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D16BE-D353-48B9-9BA2-787AA2638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 type="sldNum" idx="8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CF01-C3DC-4F58-82DD-F97717981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PlaceHolder 5"/>
          <p:cNvSpPr>
            <a:spLocks noGrp="1"/>
          </p:cNvSpPr>
          <p:nvPr>
            <p:ph type="sldNum" idx="8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E534-FA7B-4CC5-A772-BCC0E24BED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EE4FA-91CC-4095-9C46-775589D9E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S Pゴシック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 type="sldNum" idx="9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BF624-65D5-4C59-B5E0-8EFC02860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5"/>
          <p:cNvSpPr>
            <a:spLocks noGrp="1"/>
          </p:cNvSpPr>
          <p:nvPr>
            <p:ph type="sldNum" idx="9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229A-7727-4C39-8060-24005F952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9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D599-B320-4DF9-A1A5-A38B0A7157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 type="sldNum" idx="9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56293-8825-4705-B6F5-A69E4D792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DB3C-5678-4A3B-95C9-8B52E8A68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PlaceHolder 5"/>
          <p:cNvSpPr>
            <a:spLocks noGrp="1"/>
          </p:cNvSpPr>
          <p:nvPr>
            <p:ph type="sldNum" idx="10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9C80-2D9C-4431-86B0-8F8CA96009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10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08F0-E310-412D-867A-80AF36BE9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 type="sldNum" idx="11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C849-F343-48FD-8F32-2A3162A74F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 type="dt" idx="11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PlaceHolder 5"/>
          <p:cNvSpPr>
            <a:spLocks noGrp="1"/>
          </p:cNvSpPr>
          <p:nvPr>
            <p:ph type="sldNum" idx="11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F0F7-F6F1-4A90-99D7-25D361B044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 type="dt" idx="11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PlaceHolder 5"/>
          <p:cNvSpPr>
            <a:spLocks noGrp="1"/>
          </p:cNvSpPr>
          <p:nvPr>
            <p:ph type="sldNum" idx="11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B6E7-F4C2-42A6-B5B4-1A41D776B7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F059-8434-4DB2-B9B0-4EBE21EB7441}" type="datetime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2982-5F09-409C-AE0A-5489AE516BD2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 type="dt" idx="11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PlaceHolder 5"/>
          <p:cNvSpPr>
            <a:spLocks noGrp="1"/>
          </p:cNvSpPr>
          <p:nvPr>
            <p:ph type="sldNum" idx="12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241A-B23E-4FD0-A246-DE9E6D1F3F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 type="dt" idx="12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PlaceHolder 5"/>
          <p:cNvSpPr>
            <a:spLocks noGrp="1"/>
          </p:cNvSpPr>
          <p:nvPr>
            <p:ph type="sldNum" idx="12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2809-73C6-4781-A2F4-A6A0E769D5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2e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ccffff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 type="dt" idx="12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PlaceHolder 5"/>
          <p:cNvSpPr>
            <a:spLocks noGrp="1"/>
          </p:cNvSpPr>
          <p:nvPr>
            <p:ph type="sldNum" idx="12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26657-0698-4510-A9C0-4DC902A7E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167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ED58-232A-42FF-9280-0D610AD89CC0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4F491-07FC-42C9-B9D2-E691173B82F9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210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AB99-FADB-4097-98A3-05B87006CCD6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709B-B6E6-4AA3-81CE-CDD7ABC89A6A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253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A39D-D2C7-4218-B17D-C06B6B704809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2CFCD-F4CE-4E1D-9B71-B5A9B51C6E3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296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1C17-DC09-4D42-885C-BAD29CAF1268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3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4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B65A-941A-4F83-A89A-B0E1E04C464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9" descr="UT_Logo_Black_EN"/>
          <p:cNvPicPr/>
          <p:nvPr/>
        </p:nvPicPr>
        <p:blipFill>
          <a:blip r:embed="rId2"/>
          <a:stretch/>
        </p:blipFill>
        <p:spPr>
          <a:xfrm>
            <a:off x="911160" y="6332400"/>
            <a:ext cx="2098800" cy="417600"/>
          </a:xfrm>
          <a:prstGeom prst="rect">
            <a:avLst/>
          </a:prstGeom>
          <a:ln w="0">
            <a:noFill/>
          </a:ln>
        </p:spPr>
      </p:pic>
      <p:sp>
        <p:nvSpPr>
          <p:cNvPr id="339" name="Line 12"/>
          <p:cNvSpPr/>
          <p:nvPr/>
        </p:nvSpPr>
        <p:spPr>
          <a:xfrm>
            <a:off x="1079640" y="1636560"/>
            <a:ext cx="806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079640" y="363240"/>
            <a:ext cx="78055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1079280" y="2050560"/>
            <a:ext cx="7802280" cy="35607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55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38200" indent="-28116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01720" indent="-2383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077840" indent="-25092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344600" indent="-255600">
              <a:lnSpc>
                <a:spcPts val="25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76280"/>
                <a:tab algn="l" pos="714240"/>
                <a:tab algn="l" pos="952560"/>
                <a:tab algn="l" pos="1190520"/>
                <a:tab algn="l" pos="1428840"/>
                <a:tab algn="l" pos="1666800"/>
                <a:tab algn="l" pos="1905120"/>
                <a:tab algn="l" pos="2143080"/>
                <a:tab algn="l" pos="2381400"/>
                <a:tab algn="l" pos="2619360"/>
                <a:tab algn="l" pos="2857680"/>
                <a:tab algn="l" pos="3095640"/>
                <a:tab algn="l" pos="3333600"/>
                <a:tab algn="l" pos="3571920"/>
                <a:tab algn="l" pos="3809880"/>
                <a:tab algn="l" pos="4048200"/>
                <a:tab algn="l" pos="4286160"/>
                <a:tab algn="l" pos="4524480"/>
                <a:tab algn="l" pos="4762440"/>
                <a:tab algn="l" pos="50007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25"/>
          </p:nvPr>
        </p:nvSpPr>
        <p:spPr>
          <a:xfrm>
            <a:off x="7572240" y="6401880"/>
            <a:ext cx="936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9ABA-A107-4D76-A411-0698E815B8F1}" type="datetime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26"/>
          </p:nvPr>
        </p:nvSpPr>
        <p:spPr>
          <a:xfrm>
            <a:off x="3635280" y="6401880"/>
            <a:ext cx="3936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oter text: to modify choose 'View' (Office 2003 or earlier) or 'Insert' (Office 2007 or later)  then 'Header &amp; Footer'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27"/>
          </p:nvPr>
        </p:nvSpPr>
        <p:spPr>
          <a:xfrm>
            <a:off x="8508600" y="6400440"/>
            <a:ext cx="37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Autofit/>
          </a:bodyPr>
          <a:lstStyle>
            <a:lvl1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ts val="1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99DEB-BB4F-4B31-AF28-F6B3EF1088F7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4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09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09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0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09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409.xml"/><Relationship Id="rId6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Rectangle 4"/>
          <p:cNvSpPr/>
          <p:nvPr/>
        </p:nvSpPr>
        <p:spPr>
          <a:xfrm>
            <a:off x="1139760" y="765000"/>
            <a:ext cx="787104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ff"/>
                </a:solidFill>
                <a:latin typeface="Arial Narrow"/>
              </a:rPr>
              <a:t>River basin game</a:t>
            </a:r>
            <a:br>
              <a:rPr sz="4800"/>
            </a:b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Introduction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 Narrow"/>
              </a:rPr>
              <a:t>Arjen Hoekst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Narrow"/>
              </a:rPr>
              <a:t>University of Twente, the Netherland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2" name="Picture 3" descr=""/>
          <p:cNvPicPr/>
          <p:nvPr/>
        </p:nvPicPr>
        <p:blipFill>
          <a:blip r:embed="rId1"/>
          <a:stretch/>
        </p:blipFill>
        <p:spPr>
          <a:xfrm>
            <a:off x="755640" y="936720"/>
            <a:ext cx="369720" cy="863640"/>
          </a:xfrm>
          <a:prstGeom prst="rect">
            <a:avLst/>
          </a:prstGeom>
          <a:ln w="0">
            <a:noFill/>
          </a:ln>
        </p:spPr>
      </p:pic>
      <p:pic>
        <p:nvPicPr>
          <p:cNvPr id="1753" name="Afbeelding 3" descr="UT_Logo_2400_White_EN.png"/>
          <p:cNvPicPr/>
          <p:nvPr/>
        </p:nvPicPr>
        <p:blipFill>
          <a:blip r:embed="rId2"/>
          <a:stretch/>
        </p:blipFill>
        <p:spPr>
          <a:xfrm>
            <a:off x="-6480" y="6286680"/>
            <a:ext cx="2970360" cy="571320"/>
          </a:xfrm>
          <a:prstGeom prst="rect">
            <a:avLst/>
          </a:prstGeom>
          <a:ln w="0">
            <a:noFill/>
          </a:ln>
        </p:spPr>
      </p:pic>
      <p:pic>
        <p:nvPicPr>
          <p:cNvPr id="1754" name="Picture 2" descr=""/>
          <p:cNvPicPr/>
          <p:nvPr/>
        </p:nvPicPr>
        <p:blipFill>
          <a:blip r:embed="rId3"/>
          <a:stretch/>
        </p:blipFill>
        <p:spPr>
          <a:xfrm>
            <a:off x="1241280" y="3384720"/>
            <a:ext cx="333072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Rectangle 3"/>
          <p:cNvSpPr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Rectangle 3"/>
          <p:cNvSpPr/>
          <p:nvPr/>
        </p:nvSpPr>
        <p:spPr>
          <a:xfrm>
            <a:off x="539640" y="1857240"/>
            <a:ext cx="847404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9-15 farmers per river basin, competing for w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water is the limiting factor in crop grow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three compartments: upstream, midstream, downstrea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we play 8 rounds (years); 15 minute per rou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Rectangle 2"/>
          <p:cNvSpPr/>
          <p:nvPr/>
        </p:nvSpPr>
        <p:spPr>
          <a:xfrm>
            <a:off x="539640" y="152280"/>
            <a:ext cx="845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ff"/>
                </a:solidFill>
                <a:latin typeface="Arial Narrow"/>
              </a:rPr>
              <a:t>The set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8" name="Picture 27" descr=""/>
          <p:cNvPicPr/>
          <p:nvPr/>
        </p:nvPicPr>
        <p:blipFill>
          <a:blip r:embed="rId1"/>
          <a:stretch/>
        </p:blipFill>
        <p:spPr>
          <a:xfrm>
            <a:off x="157320" y="152280"/>
            <a:ext cx="311040" cy="723960"/>
          </a:xfrm>
          <a:prstGeom prst="rect">
            <a:avLst/>
          </a:prstGeom>
          <a:ln w="0">
            <a:noFill/>
          </a:ln>
        </p:spPr>
      </p:pic>
      <p:pic>
        <p:nvPicPr>
          <p:cNvPr id="1759" name="Afbeelding 3" descr="UT_Logo_2400_White_EN.png"/>
          <p:cNvPicPr/>
          <p:nvPr/>
        </p:nvPicPr>
        <p:blipFill>
          <a:blip r:embed="rId2"/>
          <a:stretch/>
        </p:blipFill>
        <p:spPr>
          <a:xfrm>
            <a:off x="-6480" y="6286680"/>
            <a:ext cx="29703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Rectangle 3"/>
          <p:cNvSpPr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Rectangle 3"/>
          <p:cNvSpPr/>
          <p:nvPr/>
        </p:nvSpPr>
        <p:spPr>
          <a:xfrm>
            <a:off x="539640" y="1857240"/>
            <a:ext cx="8474040" cy="28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Make money with farming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cost: pumping wa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gross benefit: market price for crops produc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•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net benefit = gross benefit – total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2"/>
          <p:cNvSpPr/>
          <p:nvPr/>
        </p:nvSpPr>
        <p:spPr>
          <a:xfrm>
            <a:off x="539640" y="152280"/>
            <a:ext cx="845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ff"/>
                </a:solidFill>
                <a:latin typeface="Arial Narrow"/>
              </a:rPr>
              <a:t>The ai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3" name="Picture 27" descr=""/>
          <p:cNvPicPr/>
          <p:nvPr/>
        </p:nvPicPr>
        <p:blipFill>
          <a:blip r:embed="rId1"/>
          <a:stretch/>
        </p:blipFill>
        <p:spPr>
          <a:xfrm>
            <a:off x="157320" y="152280"/>
            <a:ext cx="311040" cy="723960"/>
          </a:xfrm>
          <a:prstGeom prst="rect">
            <a:avLst/>
          </a:prstGeom>
          <a:ln w="0">
            <a:noFill/>
          </a:ln>
        </p:spPr>
      </p:pic>
      <p:pic>
        <p:nvPicPr>
          <p:cNvPr id="1764" name="Afbeelding 3" descr="UT_Logo_2400_White_EN.png"/>
          <p:cNvPicPr/>
          <p:nvPr/>
        </p:nvPicPr>
        <p:blipFill>
          <a:blip r:embed="rId2"/>
          <a:stretch/>
        </p:blipFill>
        <p:spPr>
          <a:xfrm>
            <a:off x="-6480" y="6286680"/>
            <a:ext cx="29703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Rectangle 3"/>
          <p:cNvSpPr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Rectangle 3"/>
          <p:cNvSpPr/>
          <p:nvPr/>
        </p:nvSpPr>
        <p:spPr>
          <a:xfrm>
            <a:off x="539640" y="1341360"/>
            <a:ext cx="8474040" cy="23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Gross benefit = Units of water abstracted x Benefit per uni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Benefit per unit of wat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50 euro / un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Rectangle 2"/>
          <p:cNvSpPr/>
          <p:nvPr/>
        </p:nvSpPr>
        <p:spPr>
          <a:xfrm>
            <a:off x="539640" y="152280"/>
            <a:ext cx="845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ff"/>
                </a:solidFill>
                <a:latin typeface="Arial Narrow"/>
              </a:rPr>
              <a:t>Benefits of water abstra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8" name="Picture 27" descr=""/>
          <p:cNvPicPr/>
          <p:nvPr/>
        </p:nvPicPr>
        <p:blipFill>
          <a:blip r:embed="rId1"/>
          <a:stretch/>
        </p:blipFill>
        <p:spPr>
          <a:xfrm>
            <a:off x="157320" y="152280"/>
            <a:ext cx="311040" cy="723960"/>
          </a:xfrm>
          <a:prstGeom prst="rect">
            <a:avLst/>
          </a:prstGeom>
          <a:ln w="0">
            <a:noFill/>
          </a:ln>
        </p:spPr>
      </p:pic>
      <p:pic>
        <p:nvPicPr>
          <p:cNvPr id="1769" name="Afbeelding 3" descr="UT_Logo_2400_White_EN.png"/>
          <p:cNvPicPr/>
          <p:nvPr/>
        </p:nvPicPr>
        <p:blipFill>
          <a:blip r:embed="rId2"/>
          <a:stretch/>
        </p:blipFill>
        <p:spPr>
          <a:xfrm>
            <a:off x="-6480" y="6286680"/>
            <a:ext cx="29703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Rectangle 3"/>
          <p:cNvSpPr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Rectangle 3"/>
          <p:cNvSpPr/>
          <p:nvPr/>
        </p:nvSpPr>
        <p:spPr>
          <a:xfrm>
            <a:off x="539640" y="1341360"/>
            <a:ext cx="847404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Total cost = Number of water units  x  Average unit co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Average cost per unit of wat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increases as you and the other members of your group consume more wa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base cost of one water unit 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1 euro in first r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1+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 euro in later rounds, whereby </a:t>
            </a:r>
            <a:r>
              <a:rPr b="0" i="1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n</a:t>
            </a:r>
            <a:r>
              <a:rPr b="0" lang="en-US" sz="18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 = depletion of groundwater storage from previous rou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buClr>
                <a:srgbClr val="ffffff"/>
              </a:buClr>
              <a:buSzPct val="80000"/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  <a:ea typeface="MS Pゴシック"/>
              </a:rPr>
              <a:t>each additional water unit costs an additional 1 eur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2"/>
          <p:cNvSpPr/>
          <p:nvPr/>
        </p:nvSpPr>
        <p:spPr>
          <a:xfrm>
            <a:off x="539640" y="152280"/>
            <a:ext cx="845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ff"/>
                </a:solidFill>
                <a:latin typeface="Arial Narrow"/>
              </a:rPr>
              <a:t>Costs of water abstra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3" name="Picture 27" descr=""/>
          <p:cNvPicPr/>
          <p:nvPr/>
        </p:nvPicPr>
        <p:blipFill>
          <a:blip r:embed="rId1"/>
          <a:stretch/>
        </p:blipFill>
        <p:spPr>
          <a:xfrm>
            <a:off x="157320" y="152280"/>
            <a:ext cx="311040" cy="723960"/>
          </a:xfrm>
          <a:prstGeom prst="rect">
            <a:avLst/>
          </a:prstGeom>
          <a:ln w="0">
            <a:noFill/>
          </a:ln>
        </p:spPr>
      </p:pic>
      <p:pic>
        <p:nvPicPr>
          <p:cNvPr id="1774" name="Afbeelding 3" descr="UT_Logo_2400_White_EN.png"/>
          <p:cNvPicPr/>
          <p:nvPr/>
        </p:nvPicPr>
        <p:blipFill>
          <a:blip r:embed="rId2"/>
          <a:stretch/>
        </p:blipFill>
        <p:spPr>
          <a:xfrm>
            <a:off x="-6480" y="6286680"/>
            <a:ext cx="29703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Rectangle 3"/>
          <p:cNvSpPr/>
          <p:nvPr/>
        </p:nvSpPr>
        <p:spPr>
          <a:xfrm>
            <a:off x="0" y="1285920"/>
            <a:ext cx="9144000" cy="55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Rectangle 2"/>
          <p:cNvSpPr/>
          <p:nvPr/>
        </p:nvSpPr>
        <p:spPr>
          <a:xfrm>
            <a:off x="539640" y="152280"/>
            <a:ext cx="8452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ccff"/>
                </a:solidFill>
                <a:latin typeface="Arial Narrow"/>
              </a:rPr>
              <a:t>Hydrology of the river basi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7" name="Picture 27" descr=""/>
          <p:cNvPicPr/>
          <p:nvPr/>
        </p:nvPicPr>
        <p:blipFill>
          <a:blip r:embed="rId1"/>
          <a:stretch/>
        </p:blipFill>
        <p:spPr>
          <a:xfrm>
            <a:off x="157320" y="152280"/>
            <a:ext cx="311040" cy="723960"/>
          </a:xfrm>
          <a:prstGeom prst="rect">
            <a:avLst/>
          </a:prstGeom>
          <a:ln w="0">
            <a:noFill/>
          </a:ln>
        </p:spPr>
      </p:pic>
      <p:pic>
        <p:nvPicPr>
          <p:cNvPr id="1778" name="Afbeelding 3" descr="UT_Logo_2400_White_EN.png"/>
          <p:cNvPicPr/>
          <p:nvPr/>
        </p:nvPicPr>
        <p:blipFill>
          <a:blip r:embed="rId2"/>
          <a:stretch/>
        </p:blipFill>
        <p:spPr>
          <a:xfrm>
            <a:off x="-6480" y="6286680"/>
            <a:ext cx="2970360" cy="571320"/>
          </a:xfrm>
          <a:prstGeom prst="rect">
            <a:avLst/>
          </a:prstGeom>
          <a:ln w="0">
            <a:noFill/>
          </a:ln>
        </p:spPr>
      </p:pic>
      <p:pic>
        <p:nvPicPr>
          <p:cNvPr id="1779" name="Picture 26" descr=""/>
          <p:cNvPicPr/>
          <p:nvPr/>
        </p:nvPicPr>
        <p:blipFill>
          <a:blip r:embed="rId3"/>
          <a:stretch/>
        </p:blipFill>
        <p:spPr>
          <a:xfrm>
            <a:off x="611280" y="1073160"/>
            <a:ext cx="6408720" cy="3452760"/>
          </a:xfrm>
          <a:prstGeom prst="rect">
            <a:avLst/>
          </a:prstGeom>
          <a:ln w="0">
            <a:noFill/>
          </a:ln>
        </p:spPr>
      </p:pic>
      <p:pic>
        <p:nvPicPr>
          <p:cNvPr id="1780" name="Picture 27" descr=""/>
          <p:cNvPicPr/>
          <p:nvPr/>
        </p:nvPicPr>
        <p:blipFill>
          <a:blip r:embed="rId4"/>
          <a:stretch/>
        </p:blipFill>
        <p:spPr>
          <a:xfrm>
            <a:off x="611280" y="4659480"/>
            <a:ext cx="6408720" cy="1627200"/>
          </a:xfrm>
          <a:prstGeom prst="rect">
            <a:avLst/>
          </a:prstGeom>
          <a:ln w="0">
            <a:noFill/>
          </a:ln>
        </p:spPr>
      </p:pic>
      <p:sp>
        <p:nvSpPr>
          <p:cNvPr id="1781" name="Rectangle 3"/>
          <p:cNvSpPr/>
          <p:nvPr/>
        </p:nvSpPr>
        <p:spPr>
          <a:xfrm>
            <a:off x="684360" y="4095720"/>
            <a:ext cx="30240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ゴシック"/>
              </a:rPr>
              <a:t>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MS Pゴシック"/>
              </a:rPr>
              <a:t>ou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ゴシック"/>
              </a:rPr>
              <a:t> = S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MS Pゴシック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ゴシック"/>
              </a:rPr>
              <a:t> / k,    k = 1.25 ye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Rectangle 3"/>
          <p:cNvSpPr/>
          <p:nvPr/>
        </p:nvSpPr>
        <p:spPr>
          <a:xfrm>
            <a:off x="684360" y="3755880"/>
            <a:ext cx="30589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ゴシック"/>
              </a:rPr>
              <a:t>dS = P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MS Pゴシック"/>
              </a:rPr>
              <a:t>ne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ゴシック"/>
              </a:rPr>
              <a:t> +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MS Pゴシック"/>
              </a:rPr>
              <a:t>i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ゴシック"/>
              </a:rPr>
              <a:t> – Q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MS Pゴシック"/>
              </a:rPr>
              <a:t>out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ゴシック"/>
              </a:rPr>
              <a:t>–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09T12:29:52Z</dcterms:created>
  <dc:creator>A.Y. Hoekstra</dc:creator>
  <dc:description/>
  <dc:language>en-US</dc:language>
  <cp:lastModifiedBy>University of Twente</cp:lastModifiedBy>
  <cp:lastPrinted>2013-06-19T07:53:20Z</cp:lastPrinted>
  <dcterms:modified xsi:type="dcterms:W3CDTF">2013-09-16T08:10:07Z</dcterms:modified>
  <cp:revision>1057</cp:revision>
  <dc:subject/>
  <dc:title>PowerPoint Presentation</dc:title>
</cp:coreProperties>
</file>